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B55-1BD5-4327-94CA-B62CA511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CCD-D954-4292-ADF7-A3937649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32C-C625-4F06-AD49-D4FE5207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456-F281-41BC-9D53-F68147E1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26A-00E1-4B20-9E9C-3815EB92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D23-C456-48A5-A71E-0201F016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802-1241-446D-B644-CD206A21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DCF-4ACC-4F36-B534-F3D24826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04F-AC65-4C8D-972B-BFF81BAF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454-499D-4623-90AE-495FA235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4F7-309C-4619-BE6D-860B2194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4C1-69C7-46EA-81E0-9AA27A71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099B-A143-4EDF-A029-6092836D24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501336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Развитие вним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0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543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рисунок 2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357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Что перепутал художник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Найди отличия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Рисунок 16" descr=""/>
          <p:cNvPicPr/>
          <p:nvPr/>
        </p:nvPicPr>
        <p:blipFill>
          <a:blip r:embed="rId1"/>
          <a:srcRect l="0" t="6222" r="0" b="0"/>
          <a:stretch/>
        </p:blipFill>
        <p:spPr>
          <a:xfrm>
            <a:off x="611280" y="1413000"/>
            <a:ext cx="7920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Зрительные графические диктанты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7" descr="Рисунок5"/>
          <p:cNvPicPr/>
          <p:nvPr/>
        </p:nvPicPr>
        <p:blipFill>
          <a:blip r:embed="rId1"/>
          <a:stretch/>
        </p:blipFill>
        <p:spPr>
          <a:xfrm>
            <a:off x="250920" y="1628640"/>
            <a:ext cx="4038480" cy="453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Изображение 175"/>
          <p:cNvPicPr/>
          <p:nvPr/>
        </p:nvPicPr>
        <p:blipFill>
          <a:blip r:embed="rId2"/>
          <a:stretch/>
        </p:blipFill>
        <p:spPr>
          <a:xfrm>
            <a:off x="4716360" y="1628640"/>
            <a:ext cx="40338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Увеличение объема вниман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авните предметы между собой. Скажите, чем они похожи и чем отличаютс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авните предметы между собой. Скажите, чем они похожи и чем отличаются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95280" y="2313000"/>
            <a:ext cx="4321080" cy="31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4503600" y="2313000"/>
            <a:ext cx="3975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дсчитай, сколько в шарике разных цифр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4098960" cy="52578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6732720" y="1341360"/>
            <a:ext cx="2016000" cy="518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и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тве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яте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Внимани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- это направленность и сосредоточенность нашего сознания на определенном объекте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rcRect l="0" t="12223" r="0" b="0"/>
          <a:stretch/>
        </p:blipFill>
        <p:spPr>
          <a:xfrm>
            <a:off x="4643280" y="3992400"/>
            <a:ext cx="39610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ahoma"/>
              </a:rPr>
              <a:t>Свойства вним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осредоточенн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стойчивост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объем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спределени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ереключ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Развитие концентрации внимания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Корректурные зад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осчитай сколько букв</a:t>
            </a:r>
            <a:r>
              <a:rPr b="1" lang="ru-RU" sz="36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«А»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 Ы В А П Е П А К У А В Ы В С М А К П И М С Ч Ы В А М У К В А В С М А К А К У К А В А П М С М А В С Ч Ы У В А М П Е К А П П  И Р П М А Ж Е А П М С А С В П Е К У А П И М С Ж В А М П Ж А В К Е А М П А В А П Ш Е Р И В А П Е К А В Ч Ы У К В У В Ы С В К А М П Р А М С Ы В С М А А П И М С Ч Ы И М А Н П А В Ы В А П М С В  А В С М А К А К У К А В А П М С М А В С Ч Ы У В А С И Р П М А Р П М С М П А В К Е А П М С А С В П Е К У А П И М С В А М П А В  К Е А Р И М О В С А М П А К В А 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Корректурные зад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осчитай сколько цифр «5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4 2 3 6 5 8 8 8 9 6 5 3 2 4 1 0 0 2 5 8 0 1 2 3 6 0 2 5 0 9 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0 3 6 9 0 5 4 8 0 2 1 8 0 5 6 8 7 9 9 0 2 3 1 0 5 0 0 3 6 5 9 8 8 5 6 3 2 4 1 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2 5 1 2 3 3 6 5 8 9 6 5 3 2 4 1 0 0 2 5 8 0 1 2 3 6 0 7 5 0 4 5 1 0 2 5 0 9 8 0 3 6 9 0 5 4 8 0 2 1 8 0 5 6 8 7 9 9 0 2 3 1 0 1 0 0 3 6 5 9 8 8 5 6 3 2 4 1 5 2 4 8 9 6 9 8 7 5 4 5 2 3 6 9 8 7 5 1 4 4 7 7 9 6 3 5 2 6 5 9 8 7 4 2 3 6 5 8 9 6 5 3 2 4 1 0 0 2 5 0 1 2 3 6 9 6 9 8 7 5 4 3 5 4 6 5 2 5 8 9 6 5 4 8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Методика Мюнстерберга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 (и ее модификации)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Найди спрятанные сло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 П Р П А В И С О Л Н Ц Е В Т А О Р Ш А Р А К Е И Г У О У Н Г Ш К В М Я Ч Л О А А П Р ОУ Ш Г К А Р Т И Н А К Н Р Ч И Т Я Б Л О К О О Р А А П Р С М И Р М С Г Ш Щ Ш Л Р Е О Ы Л Д О В Т Е Л Е Ф О Н Ф Ж Д Ы Л З О Н Т В Ш К Е Р О Ч С Т И Р В А П Р О М А Ш И Н А П И О Л Л Ю С А Д А С И Н А Р В Ы Л О А Р Н Е Г К У А И С Т У Л  Н П Р О Л Д С Н К В А Г О Н О Р П О В А И У Р О Л В Р Е Б Л Е Н  П И Н Г В И Н  Н К Р О С Т О К В П Ы Р Л Б Щ 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«Перепутанные линии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рисунок 3"/>
          <p:cNvPicPr/>
          <p:nvPr/>
        </p:nvPicPr>
        <p:blipFill>
          <a:blip r:embed="rId1"/>
          <a:stretch/>
        </p:blipFill>
        <p:spPr>
          <a:xfrm>
            <a:off x="250920" y="2276640"/>
            <a:ext cx="3827520" cy="343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рисунок 3"/>
          <p:cNvPicPr/>
          <p:nvPr/>
        </p:nvPicPr>
        <p:blipFill>
          <a:blip r:embed="rId2"/>
          <a:stretch/>
        </p:blipFill>
        <p:spPr>
          <a:xfrm>
            <a:off x="3741840" y="2239920"/>
            <a:ext cx="4916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речисли предметы, назови общим слов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1336680" y="1981080"/>
            <a:ext cx="646920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5003640" y="5516640"/>
            <a:ext cx="367200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66"/>
                </a:solidFill>
                <a:latin typeface="Times New Roman"/>
              </a:rPr>
              <a:t>игруш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1:40:42Z</dcterms:created>
  <dc:creator>Капуста</dc:creator>
  <dc:description/>
  <dc:language>en-US</dc:language>
  <cp:lastModifiedBy>User</cp:lastModifiedBy>
  <dcterms:modified xsi:type="dcterms:W3CDTF">2022-01-11T14:28:00Z</dcterms:modified>
  <cp:revision>20</cp:revision>
  <dc:subject/>
  <dc:title>Слайд 1</dc:title>
</cp:coreProperties>
</file>